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204-CE67-412F-A1AF-6033159C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0937-FF94-4DFF-9E09-45AB3068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448-9E4F-48B6-B559-DCE0EAF3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9743-35BB-429E-B4F4-07808708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991-6E5F-4BF7-80CC-20ADCC78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7900-2154-4545-A244-3CB3338C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E93-CC82-425C-A208-52CF0622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CB4-2B30-43E1-AC52-8A1BC12F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F279-3437-4184-BC9A-CC729ED4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C05-2B4C-4133-B85C-A6B7E03E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D33A-43DD-4092-8DBC-3C7DD830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70FB-2461-4AC4-BF53-9874279B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5928-7D39-4B5C-96CF-7BC27E87E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ablopicasso.org/images/paintings/guernica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docuweb.ca/SiSpain/spanish/history/republic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uerra Civil Españ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ente españ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Content Placeholder 2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3807000" cy="464832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4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3308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ue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2" descr=""/>
          <p:cNvPicPr/>
          <p:nvPr/>
        </p:nvPicPr>
        <p:blipFill>
          <a:blip r:embed="rId1"/>
          <a:stretch/>
        </p:blipFill>
        <p:spPr>
          <a:xfrm>
            <a:off x="990720" y="1278000"/>
            <a:ext cx="708660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2" descr=""/>
          <p:cNvPicPr/>
          <p:nvPr/>
        </p:nvPicPr>
        <p:blipFill>
          <a:blip r:embed="rId1"/>
          <a:stretch/>
        </p:blipFill>
        <p:spPr>
          <a:xfrm>
            <a:off x="1981080" y="76320"/>
            <a:ext cx="457200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celona- modern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2" descr=""/>
          <p:cNvPicPr/>
          <p:nvPr/>
        </p:nvPicPr>
        <p:blipFill>
          <a:blip r:embed="rId1"/>
          <a:stretch/>
        </p:blipFill>
        <p:spPr>
          <a:xfrm>
            <a:off x="762120" y="1006560"/>
            <a:ext cx="746748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rnica- 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Guernica, 1937 by Pablo Picass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0" y="2039760"/>
            <a:ext cx="8991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triunfo de Fran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franco victorious"/>
          <p:cNvPicPr/>
          <p:nvPr/>
        </p:nvPicPr>
        <p:blipFill>
          <a:blip r:embed="rId1"/>
          <a:stretch/>
        </p:blipFill>
        <p:spPr>
          <a:xfrm>
            <a:off x="1681200" y="2100240"/>
            <a:ext cx="57816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Siglo X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1931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gunda Repú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1936-1939: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Guerra Civil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1937: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Picasso, Guernica. (1937)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1939: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El 1 de abril termina la guerra civil; vencen las tropas franquistas. (Franco)  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1975: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Juan Carlos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de Borbón, rey de Españ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Causas de la Gue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onso XIII: rey de España 1902-19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visión antidemoc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 crisis económica durante los 192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uel Primo de Rive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ció un golpe de estado 1923 y asumió el p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endió la constit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eció la ley ma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eció un sistema estricto de la cens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etió estar en poder por 90 dias pero su dictadura duró hasta 19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dió el apoya del ejercito y tuvo que dejar su 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Segunda Repúb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1931 Alfonsó XIII consintió a las elecciones democrá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an las primeras elecciones desde hace 60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gente votó y quería que España se convirtiera en una repú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evitar la violencia, Alfonso XIII se exil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s conflictos empezaron entre los republicanos y las nacional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ana fue el primer ministro (izquierdis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ía mucho desacuerdo con los camb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3, Jose Antonio Primo de Rivera organizó el partido falangista (facista/derechis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6, Azana fue elegido Presid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guerra civil empez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dos l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Republi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der: el gobierno elegido (apoyo de la mitad de los milit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bieron la ayuda de las Brigadas Internacionales (los americanos y otros paises europe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trabajadores y la clase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Naciona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der: General Francisco Fr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os rebel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bieron la ayuda de Mussolini y Hit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glesia Católica, los dueños de la tierra (los ricos) y los hombres de nego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america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2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843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republica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2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3587760" cy="23857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4" descr=""/>
          <p:cNvPicPr/>
          <p:nvPr/>
        </p:nvPicPr>
        <p:blipFill>
          <a:blip r:embed="rId2"/>
          <a:stretch/>
        </p:blipFill>
        <p:spPr>
          <a:xfrm>
            <a:off x="609480" y="1438200"/>
            <a:ext cx="3610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nacionali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2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320040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5:40:03Z</dcterms:created>
  <dc:creator>cderrane</dc:creator>
  <dc:description/>
  <dc:language>en-US</dc:language>
  <cp:lastModifiedBy>Jessica Kaplan</cp:lastModifiedBy>
  <dcterms:modified xsi:type="dcterms:W3CDTF">2014-04-29T12:11:35Z</dcterms:modified>
  <cp:revision>24</cp:revision>
  <dc:subject/>
  <dc:title>La Guerra Civil Española</dc:title>
</cp:coreProperties>
</file>